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6A071-28B2-447F-BD72-8CD2D45F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199B4-DE22-4493-B8B3-378C5FB5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A7F6D-59BB-40FA-B18D-D66F4C82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A84E2-2FD5-41D9-AAC4-A7CAF61E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1179-5A8D-4546-A51E-00BA0DA4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6C0C-9C78-4ED5-A157-9EACCF1C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B0D9-C64D-40BC-B5C5-89BE9423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1803-713E-4E4B-84B2-0FE1344E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46CE-B1E6-4D38-8BC2-462B5374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662D-0EFE-4DB4-A45E-9971A670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10F1-7C3E-44F2-BE19-B83010A0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A2648-E326-4218-B664-2C716CE3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93FF-1C33-4EA0-B76D-8E5BC974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7096-D05F-437F-B893-B7A0B6D6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A300-01A1-4D4A-957D-4760EFD9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78A0-E971-48BD-AE06-8AC2DE2D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D15D-7D13-4932-BD32-99EC9094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5E41D-5BFE-4D21-A753-AF7820DE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8333C-6909-44CB-947E-F0C265B9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9B0F2-4A23-4BDD-8566-6ADFA815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07EE0-9DF5-46B1-831B-BCBD0153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3BA48-54EA-46FC-BC64-4BF5B2E9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D8CD0-90CE-446F-8D2A-BA00A878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4B7B2-31C1-4D17-9459-F77554B7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2217-45EC-412F-A38C-E1899ED34A5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A0A4-7D63-4B33-840B-250066DD27B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691640"/>
            <a:ext cx="11131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58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58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лко мило е туй им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 Отец дал Сину Свой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чрез Него надари м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мир небесен и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13624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й-блажено име, най-блажено им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небето слезна за всички н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нгели възпяха, кога хора спях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мето на наший мил Сп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631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 в сърце ми влива радост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 светът не дава я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й и мисъл, пълна с сладост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е за мен Христос страд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213624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й-блажено име, най-блажено им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небето слезна за всички н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нгели възпяха, кога хора спях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мето на наший мил Сп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2631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хор със ангели небесн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мето на наший Спас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ий възпейте в славни песн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мърт прие Исус за н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280" y="213624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й-блажено име, най-блажено им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небето слезна за всички н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нгели възпяха, кога хора спях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мето на наший мил Сп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6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10T10:22:03Z</dcterms:modified>
  <cp:revision>44</cp:revision>
  <dc:subject/>
  <dc:title>Slide 1</dc:title>
</cp:coreProperties>
</file>